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C604-0998-48DD-9365-6C1F7CC41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2C4C-248B-4430-9220-5F42B019F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E980-4DD8-4DE5-A3F9-F114E97C4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11BF-0BBD-4C9C-BFF8-309CC53CF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AF3F6-FFD8-4A4A-B580-6870B5735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732DF-7EEC-4B8E-AC03-FD9723C8F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1EADD-EFFC-4B96-BC64-2E4A2FBDC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70ABD-6CC8-4E74-90E2-E4C0343D8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DB90E-9DF0-4B8E-A976-5C39E4CA1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92F91-8E0A-4B9D-A6F1-5DA56CB3A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B50F2-FDC7-43A8-BA63-1605B964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34B3-A618-4A32-9E17-05B3219FA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9060A-FDF0-43ED-A278-F5A6B91C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9E373-DDE6-414E-8955-CFC7075E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E5A40-19F6-417A-A7BF-7DBFAB42A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BC278-9B6C-4E4E-866C-8E5B4B51B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3764B-14CF-481B-96A3-01C06D6FD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C59F-3F29-4607-8DF7-6384A77A1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3BB7-EFA2-4A13-8F10-2CB8CB8B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536D-186A-415C-B9A0-47891BE53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8090-18AA-4743-BA9C-4519C8BE1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EBC3-8B93-4794-B3FF-8A7F1D2E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2E71-4A74-4305-8BF9-12DB5450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EBBD-8663-4E6C-A797-4D68EC22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48D80-B04E-438E-B542-E9A0EA0E00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052E-56F3-43FC-A320-290294A72D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28600" y="1371600"/>
            <a:ext cx="8686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rt 31 do Código de Minera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t. 31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O titular, uma vez aprovado o Relatório, terá 1 (hum) ano para requerer a concessão de lavra, e, dentro deste prazo, poderá negociar seu direito a essa concessão, na forma deste Código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arágrafo Único.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O DNPM poderá prorrogar o prazo referido no caput, por igual período, mediante solicitação justificada do titular, manifestada antes de findar-se o prazo inicial ou a prorrogação em curso. 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2T21:59:55Z</dcterms:created>
  <dc:creator>Alexandre Braule</dc:creator>
  <dc:description/>
  <dc:language>en-US</dc:language>
  <cp:lastModifiedBy>Alexandre Braule</cp:lastModifiedBy>
  <dcterms:modified xsi:type="dcterms:W3CDTF">2004-08-11T12:36:43Z</dcterms:modified>
  <cp:revision>62</cp:revision>
  <dc:subject/>
  <dc:title>Apresentação do PowerPoint</dc:title>
</cp:coreProperties>
</file>